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30E9-C051-46C5-9E7C-BD9C76F54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C02A2-F308-40BC-A989-0E4C8F3F2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57F1D-1875-4552-9CEA-F0FAD22C4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7445-76F2-424F-A708-8DB05FA59F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ADF9-54D0-4C29-863F-5C2562FE25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BA7E-5BB9-4929-BB25-373929577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64B56-8AD1-47F8-A555-A158D89CD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62B3-BFC7-4DF4-AA40-827461AE6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504B0-898F-4108-AE55-9EE73E3DB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B6EC0-4F1A-4931-9AEA-B830022DB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3A5E4-1424-45F3-B9A8-F3BE1D72E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FBA14-33E9-45FB-A08F-A8F0786ECA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F8E7-8515-4480-9788-E5D0861956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CA9E-9A7D-49A2-8909-981224DDC6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160" y="2666520"/>
            <a:ext cx="830556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oncrete Pathway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lgebraic Thinking</a:t>
            </a: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 Exploring Conjectures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serve and discuss the work of the oth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about  what you heard about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conj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t the Plenary sessio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is work provide an opportunity for conjec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at sort of conjectures might students mak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w might they justify their conjec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4611-9767-42FC-B200-6156388C34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3C2D-3B9F-4832-BD25-0C882DA465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ven Curriculum Views 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ven mathematical proc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sters are po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th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rocess that </a:t>
            </a:r>
            <a:r>
              <a:rPr b="1" i="1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es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flects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e of thinking we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been do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oups take a minute to share together, then share their thinking with the whole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55B6-444D-4690-96AF-21B5F4D25A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BAB7-3AFB-487D-9E1B-F829B928D3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D32D-4904-4C85-A5F0-F5ED09E219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EA42-9D0C-4F9B-8608-F54423277A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80880" y="6858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Personal Reflection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 on your learning today, and record your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interesting  idea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questions, things to follow up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709C-E0F8-4B90-AAA0-6B23B0FF80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3504-0926-4257-86D4-07F01507B5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57200" y="60948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 Feedback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ease share your personal persp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 completing an exit c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wo things I learned today about algebraic reaso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am wondering abo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bd06662_" descr=""/>
          <p:cNvPicPr/>
          <p:nvPr/>
        </p:nvPicPr>
        <p:blipFill>
          <a:blip r:embed="rId2"/>
          <a:stretch/>
        </p:blipFill>
        <p:spPr>
          <a:xfrm>
            <a:off x="7045200" y="990720"/>
            <a:ext cx="2098800" cy="185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289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and explore concrete models of 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 connections between concrete patterns and algebraic thinking (generalizations, justification, conjec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reciate the power of multiple representations to deepen and support algebraic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 algebraic thinking to mathematical process expectation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F346-4746-4B1A-8E92-6DF62F4B89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3128-ABEB-4CE6-AFA7-126AE41AC0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289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r Questions from yester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934B-34AA-4376-A108-5FC0AFADC7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7D57-AE01-49D7-94A5-C14A9C7E51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E96F-0993-47CB-A4BD-8BB928D4BB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7E57-8C16-422C-993F-5DB172D7CF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880" y="106668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:  We Were Here ~ 1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 the different concrete models created yesterda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One person from each group stay with your model to answer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Can you guess the function from the mod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: Reflecting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notice about the model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questions do you have about concrete models of functions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 your observations and questions with a part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have unresolved questions, record them on chart paper for future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B8E7-AF4F-4095-9CB5-FBE0D59D02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E753-3E27-41B5-A21D-4B04371792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:  Viewing the Area ~ 1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ly, work through the hando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CA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Modeling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Quadratic </a:t>
            </a:r>
            <a:r>
              <a:rPr b="1" lang="en-CA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Functions with Square Tiles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are your insights, ideas, and questions with you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7390-94CB-49F9-B703-52CBBCF195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C2A1-5DC2-4218-AC88-2A4CF84A32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arning Self-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mfortable are you with concrete represent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od to g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I feel very comfortable, and could expla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to someone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Ye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ceed with caut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m getting it,  but I ne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e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m feeling confused and would like mo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expla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C284-62CE-47F2-9C09-43BAEF45DE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4AC8-125F-4DCB-813B-CAFAFCC6E0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bd07304_" descr=""/>
          <p:cNvPicPr/>
          <p:nvPr/>
        </p:nvPicPr>
        <p:blipFill>
          <a:blip r:embed="rId1"/>
          <a:stretch/>
        </p:blipFill>
        <p:spPr>
          <a:xfrm>
            <a:off x="7162920" y="685800"/>
            <a:ext cx="18223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Secret Pattern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a partner who showed the same colour as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ill be given a card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cret Pattern Building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quare tiles to build the pattern with your part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 algn="r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you are done, turn your card upside down, walk around and try to guess other people’s patterns!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46A3-8519-4E64-94DD-335EB84EF7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FCC2-3516-4EA1-A4C2-3AB48AE279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2351160"/>
            <a:ext cx="3429000" cy="1077840"/>
          </a:xfrm>
          <a:prstGeom prst="cloudCallout">
            <a:avLst>
              <a:gd name="adj1" fmla="val -23379"/>
              <a:gd name="adj2" fmla="val 429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2590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Hint:  Use stickies to  label the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Representing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nd the other pair with the same secret pattern to make a group of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k through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Representing Ac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e pair choos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Grap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ption, one choos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Linking C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you work and ideas on chart paper to communicate your thinking with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CFC5-DA38-4E19-8713-DBBD5C1101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A68E-FC44-4092-B5FF-123BCC8F41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1-08-06T19:06:16Z</dcterms:modified>
  <cp:revision>27</cp:revision>
  <dc:subject/>
  <dc:title>&lt;Title&gt;</dc:title>
</cp:coreProperties>
</file>